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AD6-E4D8-41E6-9951-C7CD61CA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65E-7EE9-464B-979A-E95E3FDC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0DD-216D-4B81-AFB6-4E27CC54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9DF-FBC6-4A39-B86C-844C01BC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67EFC-636B-46DE-AB1C-E4BE093B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D2422-141B-411D-842E-071C8F7F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262B6-8B98-40A5-9199-831A367B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1ED6C-3EE1-4150-ADC2-BD1DE1A8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C3C19-47CE-4AE7-B3FE-56B02EBA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4A101-B36B-497A-AE17-7C0D7CFD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510C2-F98E-4F65-B8C5-E5852C1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522-921F-4D54-A020-BDA21F04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8DECD-9FB9-49F6-A406-CFEA4E73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9A812-5015-41F3-B033-DC239260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EADF5-096D-4034-B2A5-11E94F29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12F62-6474-4C6C-AA9B-937F7574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14454-52C4-4438-B78C-3B1F804B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ACD-C162-4B75-A58E-D5D08C85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D7F-91A2-40A9-BAE0-83E89647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AAC-240B-433A-86AD-18806194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8B6-B4C8-465D-BA22-D0FE9B1F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8FE-EE38-4C28-A62A-50E6A6A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4DC-FB67-4DEF-AFA8-D6E39D5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035-4D3F-436F-8D0B-857D5D3E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A29F-B40A-416D-8A57-8C94E30D2F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D4D5-93C6-4908-BACB-02292E9DE8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Lesson11 </a:t>
            </a: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Orange,Brown,White,Black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1928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49417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</a:rPr>
              <a:t>它是什么颜色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88640"/>
            <a:ext cx="87138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1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ffffff"/>
                </a:solidFill>
                <a:latin typeface="Tahoma"/>
              </a:rPr>
              <a:t>②</a:t>
            </a:r>
            <a:r>
              <a:rPr b="0" lang="zh-CN" sz="12400" spc="-1" strike="noStrike">
                <a:solidFill>
                  <a:srgbClr val="ffffff"/>
                </a:solidFill>
                <a:latin typeface="Tahoma"/>
              </a:rPr>
              <a:t>What colour is it?</a:t>
            </a:r>
            <a:endParaRPr b="0" lang="en-US" sz="1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-674640"/>
            <a:ext cx="868680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orange </a:t>
            </a: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橙色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767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50115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brown </a:t>
            </a: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棕色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white</a:t>
            </a: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白色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938240"/>
            <a:ext cx="91440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black </a:t>
            </a: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黑色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93356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③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复习颜色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ff"/>
                </a:solidFill>
                <a:latin typeface="Tahoma"/>
              </a:rPr>
              <a:t>red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419640" y="2060640"/>
            <a:ext cx="5724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ahoma"/>
              </a:rPr>
              <a:t>black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635280" y="1844640"/>
            <a:ext cx="5508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yellow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317840" y="1700280"/>
            <a:ext cx="4826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blue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1746360"/>
            <a:ext cx="579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brow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5003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①</a:t>
            </a: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Letters </a:t>
            </a: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字母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green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40360" y="1773360"/>
            <a:ext cx="50036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ahoma"/>
              </a:rPr>
              <a:t>orange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500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④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作业：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2916360" cy="1800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916360" y="1844640"/>
            <a:ext cx="266364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580000" y="184464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0" y="3573360"/>
            <a:ext cx="2916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97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school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tea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umbrella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，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vetetables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各写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9600" spc="-1" strike="noStrike">
                <a:solidFill>
                  <a:srgbClr val="ffffff"/>
                </a:solidFill>
                <a:latin typeface="Tahoma"/>
              </a:rPr>
              <a:t>遍。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ffff"/>
                </a:solidFill>
                <a:latin typeface="Tahoma"/>
              </a:rPr>
              <a:t>school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1728720"/>
            <a:ext cx="91440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ffff"/>
                </a:solidFill>
                <a:latin typeface="Tahoma"/>
              </a:rPr>
              <a:t>tea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051236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9010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ffff"/>
                </a:solidFill>
                <a:latin typeface="Tahoma"/>
              </a:rPr>
              <a:t>umbrella</a:t>
            </a:r>
            <a:endParaRPr b="0" lang="en-US" sz="10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324000" y="189000"/>
            <a:ext cx="10512720" cy="74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ahoma"/>
              </a:rPr>
              <a:t>vegetables</a:t>
            </a:r>
            <a:endParaRPr b="0" lang="en-US" sz="1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9:29:19Z</dcterms:created>
  <dc:creator>微软用户</dc:creator>
  <dc:description/>
  <dc:language>en-US</dc:language>
  <cp:lastModifiedBy>微软用户</cp:lastModifiedBy>
  <dcterms:modified xsi:type="dcterms:W3CDTF">2014-09-10T09:39:44Z</dcterms:modified>
  <cp:revision>18</cp:revision>
  <dc:subject/>
  <dc:title>Lesson11 Orange,Brown,White,Black</dc:title>
</cp:coreProperties>
</file>